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0512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imentos para apresentação e normalização de trabalhos acadêm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ria Bernardete Martins A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rili I. L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FSC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9240" y="213840"/>
            <a:ext cx="545400" cy="514080"/>
          </a:xfrm>
          <a:prstGeom prst="bevel">
            <a:avLst>
              <a:gd name="adj" fmla="val 12500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64008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MERAÇÃO PROGRESSIV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BR 6024,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3733560"/>
          </a:xfrm>
          <a:prstGeom prst="rect">
            <a:avLst/>
          </a:prstGeom>
          <a:solidFill>
            <a:srgbClr val="ddee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Usa-se a numeração progress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 as seções do tex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for necessário enumerar os diversos assuntos de uma seção (itens) estes podem ser subdivididos em alíneas ordenadas alfabeticamente por letras minúsculas seguidas de parênte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líneas, exceto a última, são separadas por ponto e virg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024, 2003, p. 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artins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1520" y="-14760"/>
            <a:ext cx="541080" cy="514080"/>
          </a:xfrm>
          <a:prstGeom prst="bevel">
            <a:avLst>
              <a:gd name="adj" fmla="val 12500"/>
            </a:avLst>
          </a:prstGeom>
          <a:solidFill>
            <a:srgbClr val="d1e8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172200" cy="838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MERAÇÃO PROGRES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72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anchor="t">
            <a:normAutofit fontScale="95000"/>
          </a:bodyPr>
          <a:p>
            <a:pPr lvl="2" marL="1302840" indent="-434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recho final da seção anterior às alíneas, termina em     dois       pon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alíneas são ordenadas por letras minúsculas seguidas de parêntes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letras indicativas das alíneas são reentradas em relação à margem esquer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téria da alínea começa por letra minúscula e termina em    ponto e virgula. A última alínea termina em ponto.  Nos casos em que seguem subalíneas, as alíneas terminam em virgu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egunda linha e seguintes da matéria da alínea começam sob a primeira letra do texto da própria alín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0000"/>
                </a:solidFill>
                <a:latin typeface="Tahoma"/>
              </a:rPr>
              <a:t>Subalíne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pt-BR" sz="1800" spc="-1" strike="noStrike">
                <a:solidFill>
                  <a:srgbClr val="000000"/>
                </a:solidFill>
                <a:latin typeface="Boink LET"/>
              </a:rPr>
              <a:t>evem começar com um  hífen  colocado sob a primeira letra do texto da  alíne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ink LET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Boink LET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Boink LET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Boink LET"/>
              </a:rPr>
              <a:t>- a pontuação das subalíneas é igual a das alín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ink LET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Boink LET"/>
              </a:rPr>
              <a:t>- as linhas do texto da subalínea começam um espaço após o híf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artins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4267440" cy="1143000"/>
          </a:xfrm>
          <a:prstGeom prst="rect">
            <a:avLst/>
          </a:prstGeom>
          <a:solidFill>
            <a:srgbClr val="fff2e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R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429000"/>
          </a:xfrm>
          <a:prstGeom prst="rect">
            <a:avLst/>
          </a:prstGeom>
          <a:solidFill>
            <a:srgbClr val="fff2e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a hierarquização e identificação das seções, adota-se os recurso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BR 14724,2005; NBR 6024, 20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ixa alta ou 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400" y="457200"/>
            <a:ext cx="3276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MÁR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mário: “enumeração das principais divisões, seções e outras partes do trabalho, na mesma ordem e grafia em que a matéria nele se sucede.”</a:t>
            </a:r>
            <a:r>
              <a:rPr b="1" lang="pt-BR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NBR 6027, 2003, p. 1; NBR 14724, 2005, p. 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0000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Os elementos pré-textuais não devem constar do sumário.” (NBR 6027, 2003, p. 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SEÇÃO PRIM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ÇÃO SECUND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1.1 Seção terci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1.1.1 Seção Quatern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1.1.1.1 Seção Quin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alín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aline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subalí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441972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GIN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s as folhas do trabalho, a partir da folha de ros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devem ser contadas mas não numeradas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Numera-se somente a partir da parte textual, em algarismos</a:t>
            </a:r>
            <a:r>
              <a:rPr b="0" lang="en-US" sz="2400" spc="-1" strike="noStrike">
                <a:solidFill>
                  <a:srgbClr val="000000"/>
                </a:solidFill>
                <a:latin typeface="Boink LET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rábicos, no canto superior direi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Nota: As referências, os apêndices e os anexos seguem a numeração da parte textual</a:t>
            </a: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. </a:t>
            </a: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A capa não é contada nem numer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reviaturas e sig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ando aparecem no texto pela primeira vez, coloca-se seu nome por extenso, acrescentando a sigla/abreviatura, entre parênte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ink LE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ink LE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ink LET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Associação Brasileira de Normas Técnicas (AB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4953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UST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identificação d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Boink LET"/>
              </a:rPr>
              <a:t>uadro</a:t>
            </a:r>
            <a:r>
              <a:rPr b="0" lang="en-US" sz="2400" spc="-1" strike="noStrike">
                <a:solidFill>
                  <a:srgbClr val="000000"/>
                </a:solidFill>
                <a:latin typeface="Boink LET"/>
              </a:rPr>
              <a:t>s, lâminas, plantas, fotografias, mapas, gráficos, fluxogramas, organogramas, esquemas, desenhos e outros, </a:t>
            </a:r>
            <a:r>
              <a:rPr b="0" lang="en-US" sz="2400" spc="-1" strike="noStrike">
                <a:solidFill>
                  <a:srgbClr val="cc0000"/>
                </a:solidFill>
                <a:latin typeface="Boink LET"/>
              </a:rPr>
              <a:t>aparece na parte inferior</a:t>
            </a:r>
            <a:r>
              <a:rPr b="0" lang="en-US" sz="2400" spc="-1" strike="noStrike">
                <a:solidFill>
                  <a:srgbClr val="000000"/>
                </a:solidFill>
                <a:latin typeface="Boink LET"/>
              </a:rPr>
              <a:t>, com cada item designado por seu nome específico, seguido de seu número de ordem de ocorrência no texto em algarismos arábicos, do respectivo título e ou legenda explicativa e da fo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ink LET"/>
              </a:rPr>
              <a:t>Recomenda-se a elaboração de listas próprias para cada tipo de ilustração. (desenho, mapa, quadros etc). A ilustração deve ser inserida o mais próximo possível do texto a que se refere. (NBR-14724,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5640" y="380880"/>
            <a:ext cx="4419720" cy="914400"/>
          </a:xfrm>
          <a:prstGeom prst="rect">
            <a:avLst/>
          </a:prstGeom>
          <a:solidFill>
            <a:srgbClr val="fff2e5"/>
          </a:solidFill>
          <a:ln w="0">
            <a:noFill/>
          </a:ln>
          <a:effectLst>
            <a:outerShdw dist="107932" dir="2700000" blurRad="0" rotWithShape="0">
              <a:srgbClr val="ffddb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E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05120"/>
            <a:ext cx="8153280" cy="3886200"/>
          </a:xfrm>
          <a:prstGeom prst="rect">
            <a:avLst/>
          </a:prstGeom>
          <a:solidFill>
            <a:srgbClr val="d1e8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As tabelas  devem ter um numero em algarismo arábico, seqüencial, inscritos em seu topo a esquerda da página,  precedida da palavra Tabel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Tabela 5 ou Tabela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ink LET"/>
                <a:ea typeface="Times New Roman"/>
              </a:rPr>
              <a:t>Devem conter um título por extenso, inscrito no topo da tabela, para indicar a natureza e abrangência do seu conteúd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artins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8520" y="213840"/>
            <a:ext cx="54684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172200" cy="83844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resentação de tab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572000"/>
          </a:xfrm>
          <a:prstGeom prst="rect">
            <a:avLst/>
          </a:prstGeom>
          <a:solidFill>
            <a:srgbClr val="d1e8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t">
            <a:normAutofit fontScale="99000"/>
          </a:bodyPr>
          <a:p>
            <a:pPr marL="45252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fonte deve ser colocada imediatamente abaixo da tabela em letra maiúscula/minúscula para indicar a autoridade dos dados e/ou informações da tabela, precedida da palavra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  <a:ea typeface="Times New Roman"/>
              </a:rPr>
              <a:t>Fo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dica-se em notas, logo após a indicação da fonte, esclarecimentos a respeito do conteúdo das tabe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80000"/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  <a:ea typeface="Times New Roman"/>
              </a:rPr>
              <a:t>Notas Gerais: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údo g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80000"/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  <a:ea typeface="Times New Roman"/>
              </a:rPr>
              <a:t>Notas específica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eúdo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ta: As tabelas devem ser elaborada de acordo com norma do IBGE,    199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eb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resentação de tabelas:</a:t>
            </a:r>
            <a:br>
              <a:rPr sz="2400"/>
            </a:b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Recomendações Ge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m ter numeração independente e consecu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 O titulo deve ser colocado na parte superior, precedido da palavr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abel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 de seu número de ordem em algarismos ará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 As fontes citadas na construção de tabelas e notas eventuais aparecem no rodapé após o fio (linha) de fech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 Devem ser apresentadas em uma única pá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705720" cy="990720"/>
          </a:xfrm>
          <a:prstGeom prst="rect">
            <a:avLst/>
          </a:prstGeom>
          <a:solidFill>
            <a:srgbClr val="fff2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resentação de tabelas: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Recomendaçõe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5  Devem ter uniformidade gráfica referente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ipos de letras e númer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uso de maiúsculas e minúsculas 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inais gráficos utiliz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6 As colunas externas devem permanecer ab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7 Linhas: Deve-se utilizar fios horizontais e verticais para separar os títulos das colunas no cabeçalho e fecha-las na parte inferior, evitando-se fios verticais para separar as colunas e fios horizontais  para separar as linh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  <a:ea typeface="Times New Roman"/>
              </a:rPr>
              <a:t>Procedimentos para apresentaçã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  <a:ea typeface="Times New Roman"/>
              </a:rPr>
              <a:t>e normalização d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  <a:ea typeface="Times New Roman"/>
              </a:rPr>
              <a:t>trabalhos acadêmic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57150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Módulo 3 – Apresenta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76520" y="1981080"/>
          <a:ext cx="54864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486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resentação de tabelas:</a:t>
            </a:r>
            <a:br>
              <a:rPr sz="2400"/>
            </a:b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Recomendações Ge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75248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ando a tabela for mais larga do que a página, poderá ser impressa no sentido vertic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  Outra opção seria desmembrar a tabela (muito larga) em seções, dispondo-as uma abaixo da outra, separadas por um traço horizontal duplo, repetindo-se a cada seção o cabeç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 Se for tão longa que não possibilite o sentido vertical, poderá ser dividida e colocada em páginas confrontantes, na mesma posição e dimensões, incluindo após o titulo a designação continua, continuação e conclu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960" y="213840"/>
            <a:ext cx="54396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artins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760" y="213840"/>
            <a:ext cx="54108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24816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resentação de tab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26240" cy="435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belas que ocupam mais de uma pá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da página deve 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número da tab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títul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cabeç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da página deve ter uma das seguintes ind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ink LE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inu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na primeira pá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inuaçã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para as segui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clusã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na últ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: Estas indicações devem ser colocada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ós o título na margem direita, acima do fio horizontal que separa  o título do cabeçal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1523880"/>
          <a:ext cx="751536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751536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eb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" y="411480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or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0" y="2970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abeç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21319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880" y="54100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Rodap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74400" y="421200"/>
            <a:ext cx="4490640" cy="75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bela: modelo IB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52120" y="2133720"/>
            <a:ext cx="5715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Tamanho do pap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Espaç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Fo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Marg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Se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Numeração Progress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Pagin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lust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resentação Gráfica de trabalho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adêmicos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onografias, Dissertações e Tese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NBR-14724, 20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403884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MANHO DO PA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92468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 dissertações, teses e TCC devem ser apresentadas em papel branco, tamanho A-4 (21 cm x 29,7 cm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), digitado na cor preta no anverso das folhas, exceto a folha de rosto, onde deve-se digitar a ficha catalográfica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. (NBR 14724, 200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0000"/>
                </a:solidFill>
                <a:latin typeface="Tahoma"/>
              </a:rPr>
              <a:t>Nota: O projeto gráfico é de responsabilidade do autor do trabalho.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(NBR 14724, 200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760" y="213840"/>
            <a:ext cx="54108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4572000" cy="9144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pacej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4648320"/>
          </a:xfrm>
          <a:prstGeom prst="rect">
            <a:avLst/>
          </a:prstGeom>
          <a:solidFill>
            <a:srgbClr val="fff2e5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ahoma"/>
              </a:rPr>
              <a:t>No texto: </a:t>
            </a:r>
            <a:r>
              <a:rPr b="0" lang="pt-BR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ahoma"/>
              </a:rPr>
              <a:t>deve-se usar o </a:t>
            </a:r>
            <a:r>
              <a:rPr b="1" lang="pt-BR" sz="2400" spc="-1" strike="noStrike">
                <a:solidFill>
                  <a:srgbClr val="00cc99"/>
                </a:solidFill>
                <a:latin typeface="Tahoma"/>
              </a:rPr>
              <a:t>espacejamento 1,5</a:t>
            </a:r>
            <a:r>
              <a:rPr b="0" lang="pt-BR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Nas citações longas: </a:t>
            </a:r>
            <a:r>
              <a:rPr b="0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notas de rodapé, as referências,  as legendas das ilustrações e tabelas, a ficha catalográfica, devem ser digitadas </a:t>
            </a:r>
            <a:r>
              <a:rPr b="1" lang="pt-BR" sz="2400" spc="-1" strike="noStrike">
                <a:solidFill>
                  <a:srgbClr val="00cc99"/>
                </a:solidFill>
                <a:latin typeface="Tahoma"/>
                <a:ea typeface="Times New Roman"/>
              </a:rPr>
              <a:t>em espaço simp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Na folha de rosto e folha de aprovação</a:t>
            </a:r>
            <a:r>
              <a:rPr b="0" lang="pt-BR" sz="2400" spc="-1" strike="noStrike">
                <a:solidFill>
                  <a:srgbClr val="a50021"/>
                </a:solidFill>
                <a:latin typeface="Tahoma"/>
                <a:ea typeface="Times New Roman"/>
              </a:rPr>
              <a:t>,</a:t>
            </a:r>
            <a:r>
              <a:rPr b="0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a natureza do trabalho, o objetivo, o nome da instituição e a área de concentração, devem ser digitados, </a:t>
            </a:r>
            <a:r>
              <a:rPr b="1" lang="pt-BR" sz="2400" spc="-1" strike="noStrike">
                <a:solidFill>
                  <a:srgbClr val="00cc99"/>
                </a:solidFill>
                <a:latin typeface="Tahoma"/>
                <a:ea typeface="Times New Roman"/>
              </a:rPr>
              <a:t>em espaço simp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As referências</a:t>
            </a:r>
            <a:r>
              <a:rPr b="0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, </a:t>
            </a:r>
            <a:r>
              <a:rPr b="1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ao final do trabalho devem ser digitadas em espaço simples e separadas entre si por </a:t>
            </a:r>
            <a:r>
              <a:rPr b="1" lang="pt-BR" sz="2400" spc="-1" strike="noStrike">
                <a:solidFill>
                  <a:srgbClr val="00cc99"/>
                </a:solidFill>
                <a:latin typeface="Tahoma"/>
                <a:ea typeface="Times New Roman"/>
              </a:rPr>
              <a:t> dois espaços simples.</a:t>
            </a:r>
            <a:r>
              <a:rPr b="1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Boink LET"/>
                <a:ea typeface="Times New Roman"/>
              </a:rPr>
              <a:t>(NBR-14724,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artins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692280"/>
            <a:ext cx="2520720" cy="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93432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cc99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Usar a fonte 12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tex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ênci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Usar tamanho menor par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ações lon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s de rodap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in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endas das ilustraçõ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tabe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7057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4114800" cy="914400"/>
          </a:xfrm>
          <a:prstGeom prst="rect">
            <a:avLst/>
          </a:prstGeom>
          <a:solidFill>
            <a:srgbClr val="d1e8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arg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solidFill>
            <a:srgbClr val="efffff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ahoma"/>
                <a:ea typeface="Times New Roman"/>
              </a:rPr>
              <a:t>As folh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devem apresentar margem esquerda e superior de 3 cm, direita e inferior de 2 c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ahoma"/>
                <a:ea typeface="Times New Roman"/>
              </a:rPr>
              <a:t>As notas de rodap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deve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ser digitadas dentro das margens indicadas, devendo ficar separadas do texto por um filete de 3 cm a partir da margem esquer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ahoma"/>
                <a:ea typeface="Times New Roman"/>
              </a:rPr>
              <a:t>Parágrafos: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mbora a NBR 14724, 2005 não faça nenhuma recomendação a respeito do tipo de parágrafo, a NBR 12256, 1992 no item 5.5, recomenda o uso do parágrafo tradicional, com recuo de 6 toques a partir da margem esquerda. Modernamente adota-se o parágrafo não recuado ou parágrafo americano, sem recuo a partir da margem esquerda, separados entre si por dois espaços dup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2438280"/>
            <a:ext cx="8610480" cy="3505320"/>
          </a:xfrm>
          <a:prstGeom prst="rect">
            <a:avLst/>
          </a:prstGeom>
          <a:solidFill>
            <a:srgbClr val="e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ahoma"/>
                <a:ea typeface="Times New Roman"/>
              </a:rPr>
              <a:t>Na folha de rosto e na folha de aprovaçã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 a natureza do trabalho, o objetivo, o nome da instituição a que é submetida e a área de concentração devem ser alinhados no meio da página para a margem direita e usar espaço simpl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 (NBR 14724, 2005)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Tahoma"/>
                <a:ea typeface="Times New Roman"/>
              </a:rPr>
              <a:t>Not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A data de aprovação, o nome, titulação e assinatura dos componentes da banca examinadora, a margem é opcional, tendo em vista que a norma não se refere a e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ahoma"/>
                <a:ea typeface="Times New Roman"/>
              </a:rPr>
              <a:t>As referênc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ão alinhadas somente à margem esquerda do tex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639040" cy="1143000"/>
          </a:xfrm>
          <a:prstGeom prst="rect">
            <a:avLst/>
          </a:prstGeom>
          <a:solidFill>
            <a:srgbClr val="d1e8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arg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artins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2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1557000"/>
            <a:ext cx="822960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Indicativo numérico das seções: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ecedem seu título alinhado a esquerda separado por um espaço de caract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Títulos sem indicativo numérico:</a:t>
            </a:r>
            <a:r>
              <a:rPr b="1" lang="en-US" sz="2000" spc="-1" strike="noStrike">
                <a:solidFill>
                  <a:srgbClr val="cc6600"/>
                </a:solidFill>
                <a:latin typeface="Tahom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ata, Agradecimentos, Listas, Resumos, Sumário, Referências,  Glossário, Apêndice, Anexo e Índice, devem ser centralizados, conforme NBR 602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Títulos das seções primárias: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vem iniciar em folha distinta, na parte superior da mancha e ser separado do texto que o sucede por dois espaços de 1,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Títulos das subseções: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vem ser separados do texto que os precede e os sucede por doi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Verdana"/>
                <a:ea typeface="Times New Roman"/>
              </a:rPr>
              <a:t>espaços de 1,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619280" y="260280"/>
            <a:ext cx="540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umeração das seçõ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NBR 14714,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artins Alves e Marili I. Lop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03:32:48Z</dcterms:created>
  <dc:creator>JBRA</dc:creator>
  <dc:description/>
  <dc:language>en-US</dc:language>
  <cp:lastModifiedBy>UFSC</cp:lastModifiedBy>
  <dcterms:modified xsi:type="dcterms:W3CDTF">2006-04-18T12:53:45Z</dcterms:modified>
  <cp:revision>145</cp:revision>
  <dc:subject/>
  <dc:title>Apresentação do PowerPoint</dc:title>
</cp:coreProperties>
</file>